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F7E-B822-49D8-A675-13EC4A1D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F1B-DFEE-4B0C-9199-7E99173E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E9091-F7AC-49E2-90BA-55D2ADE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9173-2519-40F3-92C4-036E7A41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ED212-13BE-46C1-8D8D-B4A1BBA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37BAF-9EF4-4DE2-AA15-3BDD17D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7186F-A9EC-4FC9-9CCF-10E9F56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58393-2E9D-4BE1-9FE6-95D2954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D4AC7-2B8F-4B8E-9969-59AE91F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909D0-21E0-4062-93A8-FA9ABA06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8B3C8-8839-45A6-9AE1-4E45CB76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036D-A6FD-4FFE-B53E-98445E20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253-7C49-445A-8CB4-422447FF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09159-944F-4FE7-AB32-5BCEA0A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4A2A2-47D7-46DA-BC4A-834016F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7DFD3-762D-47A1-81DF-27FBD879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C7C78-0896-425E-B37A-A0524C9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3B5ED-9475-4C94-8362-284632C1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654BE-8973-42BF-8621-A2724A9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3249-F0EC-4ABF-9CA8-865A5547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D8469-E2B6-4199-B348-2CA68A3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C93B1-C697-49DD-BE40-71C80DD1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C823F-B8BE-45A1-B705-2885DF4D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C95-A2C7-4509-8728-7312642A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C1372-392D-46A6-92CC-B9CFBBC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CF91-9C59-40D7-8DA6-17A09592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2B8A0-28B8-43B0-97F7-4762E96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D02C5-3E07-4504-B46D-F3C603C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CDE62-74B6-4021-BCC8-2C5ECCB0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85588-42DE-4580-861B-16CE7D7A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E421-A573-49FF-9AA4-27B924C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F7B0F-695C-41D2-8B3C-A0F96FE0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82B72-7E96-4032-85B6-A53E65E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7C61E-4682-4B44-B632-96D13DD9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B6E-91D4-4401-9F28-EEEF330C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1BCFA-AB32-4FF5-9C3B-45DEABAB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0A651-5D4B-469A-94EB-EAF92DB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B3369-8EC0-4456-BFE7-5AA86C99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E872C-9BF7-424E-825F-07E13E65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41780-89B0-448A-BB4A-1ECB966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FE350-8749-4541-9F46-C49783F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7BAFF-DC8C-45AD-959E-FB01F3B1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57462-57A9-4ECF-922D-EB692E3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04063-E7AE-4F23-9152-DC437362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8B313-F0D9-4F20-B1E8-84A9D7AA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A480-0F08-49A8-BC77-770DA85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91AD4-B331-4D81-A5D9-A621D07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BD7E6-0AFC-4799-9136-6D81254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BE904-DB0F-4FC5-B74F-017DB01A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8A99F-29E3-4AC3-9175-3843B317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AFE2B-6173-4951-8050-0DDD0E2A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7A3C7-0D01-44E2-A97D-2E944606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ECBC0-3EE0-404E-97F7-1CB61D1D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DC935-41CE-4209-9A06-C63375A8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260B1-2B9B-4392-BA27-7D18E4B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98C21-1885-40A9-BF0E-C5100650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F444-CBBC-47CE-9CA2-2F3214F1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CB955-1B16-4616-9BF9-0C0CCD4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A2672-5227-4A24-8E85-73D5F08F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32235-069C-4320-AE84-22BB0B6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6DBC8-7718-4C8E-98DC-1240E3B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F6517-6C9F-4DA6-BC13-9AD3696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78EA4-8EE4-4D92-98FE-7A12039D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46F5C-396C-4226-9BE5-1E8C857A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3798E-21E9-4BEB-90EB-585832E5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54412-5F42-49D9-9654-DCA9B79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981B0-BFEA-4491-AC68-780FD87F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754F-C4C1-4646-B043-1DE47B90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2700A-B33D-46C0-9B36-0224C8D9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6CA17-6B9E-4613-AD8C-2B157573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9CE89-CAE1-4F23-940D-398C195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1E0B8-7169-4FFB-865B-0FE5A83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FA6B9-3BC9-4953-8ED1-AC0137A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CBA44-FF0A-45F4-BD6E-B4BF9CC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5ABC7-6D33-4D8B-A7F2-DEC082ED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CC06A-5F48-400D-80D2-648A3CE7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46CA3-C9A3-44D0-BFC3-98A9837F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0C5CB-F24B-4290-B52F-C97875F9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A184-22AD-428E-BD5B-09060E8B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305F0-2863-41B6-B764-E48FA1D7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077B1-1903-48F0-8B5E-15A38ABE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D5590-796D-437D-A71A-58DDF6CD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A76DC-CF6D-4A79-BC15-692DD25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46155-71F9-4AF0-8A86-DDBC4F53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C5AA8-090E-42AD-A5DB-87CFE087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1E525-2B96-4979-A374-DDAABBF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54B2E-1EBB-489B-BD29-8CEE930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1EEDF-20F0-47A4-B36D-E41068ED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6951F-5BC6-4F8A-9E88-8D419870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6979-FE52-4942-8DA5-DF3E53D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91C7E-B540-4B10-9605-722A032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5D962-83B7-4A19-9C63-47E2DFEA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D38DF-537B-4DCA-B5F7-1B8D822F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82AB8-AA78-4D4F-A8B0-AABE1B8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AC666-1D30-4675-900F-5887B352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039C2-6C85-4AF5-8561-64083DF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C2A87-048C-4D20-AB5D-C7CF1D5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B1758-1A72-47EB-B720-8F83B5A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D87D1-20E9-4679-9675-713524A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00D8F-5EA6-41D9-8B17-7B227AD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D0AC-3CDB-4B7B-B7F4-F8DDF61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4729A-604B-4157-8706-837E6414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C51BD-1A87-4B3C-8D9B-CCE1BB53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D1837-D7E1-4C07-9D92-4B19F843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E905D-31AD-4E69-AED2-9C4A8C49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FB835-4AE8-4EA1-9532-D37F1AAD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E0033-624D-48A2-88EA-046D8D54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FF86B-CA3D-4C0E-BA24-3D8E542B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8AE84-2BA3-4BB5-BC05-6A43CE38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CE391-0E92-4C7C-9EE0-33F425C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30A5F-1268-4F04-AEEE-BD7239D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C4C-5ACE-4D57-B20B-FC0C8D2A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3712-A2FC-46FF-AA94-E9F6957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E623A-A4A5-4EA6-8AED-E382E705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4AFA5-690B-4AE7-B855-62420C8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1B2D1-338A-42DE-9E25-DFDB3839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FA2C7-D745-405D-9E1C-6D64F828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377B8-9BEB-422D-A67C-2C157AD0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37F7F-4981-458F-AF38-43BA7F15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70055-2F3E-415A-85AA-EBF4B34C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E3F29-AC12-4784-9ACB-6E5BE51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D1F53-8AF5-41CD-BE67-BE306EE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64B3D-651A-4DD7-8147-44C08E39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A2BB-FC82-4ED7-AD5F-5C24502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FFFF2-AA66-4CC6-985D-4BA0A003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436A9-1034-4C92-A50C-B43D7EC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7B813-95D7-45EB-96FB-0E587BC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CBCA4-6D9B-480C-9383-C1546CE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90377-518B-4EFE-8E94-449E98A7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7947E-C53A-4075-8EDE-4588EDA7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F4E1B-316C-4CD4-B56D-521FF92C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A8C81-536F-4BBB-88B6-AF204ADE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57103-8B21-46E7-9B8D-55F1C25F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93542-4995-47E2-8C27-499FE2B8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C82-CD8E-4EBF-83DE-AFB9D975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583A6A-2B8F-4FB3-A7CA-7DAE49DD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D91C3-CF1A-4261-979D-2B27E41A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BAF52-DA4E-4568-B8FE-8CB4DAD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0C21D-2159-41A3-B45F-04FA8D1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921B4-A2E4-4325-A724-9E9D398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FE0C7-73CE-4577-9530-50A7903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0F6DC-20AA-4D2F-B4EE-C8AB691E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08D7F2-F0A2-474C-9D1E-04716259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BF65C-0F0F-4B22-A76F-F9C63834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6B5D5-04EF-4023-AA1B-DD746A4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5E2-2C76-4772-A92C-D996D1DE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C76B3-4E3E-4B3B-B9DA-7937492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0954B-D46E-40E6-BABE-40ABC4AC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09F06-30DD-454C-8494-06B036D7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2BD34-E2B1-4520-93E7-93A40852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57219-2012-4A4B-8569-74D3896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6A51F-C2CD-4DC6-8A4D-AF328691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E3C21-ABBB-47D1-8AA0-07BDD0A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987A1-1158-4B84-8F74-F0E26F4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6DEE9-3697-423E-86AF-29786934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366B93-3200-4529-A89E-CA04729D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3011-C271-4DE3-A5B2-8262A461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252BE-77CF-45E1-B7F1-F7EFA3AB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D1D18-B87E-4F0D-9542-DE921DCC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4A9D1-3078-4257-BEA1-99B35D43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EC3EB-B35E-44D8-8289-8B3C69B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D43FB-2128-49EB-BA5A-D02D715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5A58A-8B24-40B5-BA55-7CFCF74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BFD25-8CC7-40B8-B484-5AABDDA6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B65DC-3C7E-48D4-A2EB-010D62F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8A0E3-62FB-4D93-879E-94FA113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2BCF8-B7AC-4FDA-A91C-DFF87FF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0F72-121C-4B45-A704-CC794629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3F710-C963-4425-9CAC-89C1536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2F7D2-233D-411B-AE2E-EFAFBA07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97F254-F3EB-4FF2-92AC-E5BE27EB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8B73-E581-4A4C-A3D8-1CD3251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846F-EF3C-4D33-8D66-8688598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A251-D354-4451-9E05-8CD9865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00BC-C5CF-4E5A-98C7-57AEF76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B65-1D90-4FBE-9F25-AAD26E3E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6CC9-4B23-4C37-8F46-A6146A7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BB1C-80FE-4C47-9578-F10B542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4081-B611-4455-A25F-F7C9B68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66AC-E513-474C-B172-DA218D5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2F49-5343-4ACD-A817-83F817E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038E-0621-4B14-B9E4-2BAAA3C7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6186-5B05-4AA5-BD7A-E65BE98A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1D53-4E21-4895-A8F9-D9A4F2A2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F66F-AA8E-4C57-A536-20B0DDDD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2C52-610A-4603-BD69-2B93F998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ED9-7CCF-4D81-BAA2-A4EC61C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FF306-E66B-489F-9890-360C4FF5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1506-5E4B-4EFE-BF61-CB74266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E931-0BAE-4451-8A1B-3CA587FF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D1BF-8503-42B1-88EB-FDE05C5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D9B0-C17E-4DD4-A474-E506D8F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761D-7FB1-4DAA-B4CB-0AAB849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3416-D0C2-45C1-B711-F497A901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8B16-1EF8-4E7E-B341-6D1B65EE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DD0B-2EBA-4BEA-99FA-CFDA17F0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B1C0-C946-40FB-95F9-FB25A35A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6A3-1EE0-4CDC-BA21-00FDF30F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4D45-DDD2-4BB9-BB1E-3C129712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7FD9-8622-40AB-B88E-811D5AE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B625-5C2F-4FAB-A4E8-B91E947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3C0C-43BB-4118-B919-EA75AF5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6C6F2-EBA7-433F-AECA-AE2B44F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2FCB-EB78-4129-BFD0-9EA7999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8524-D0D4-4A62-8A32-76ACFAB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D660-4734-4702-B13F-C499159F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3C5B-B557-423F-AD6C-B945980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216E-4E95-40D7-AC92-E9EB1B00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7FA-93AE-4236-A5AF-B62D80F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D030-1BE0-4D18-AA8A-6F5BD97B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0CA1C-A036-4FAF-8B83-79D11C93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EA3E-DB1A-4345-9749-CE781810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61DE6-13E3-45F7-9D90-34B157C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D865-408D-4A4A-B33D-DE69452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2DDF-00BC-4BF8-8F31-EDA5629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7C0C-A2B9-4893-B61F-91526842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A5518-FA4C-4678-A73A-E329CD9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BF66-7412-4B13-A882-0F44D3E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8E5A-DC3D-458F-9810-CB590C2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887-F2DA-4968-9737-E657D6A6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D060-85BF-4CBA-B61A-D2BCD575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6D8B-2D12-44BD-A121-7539A1F0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B875-465C-42AA-942A-5D40350F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E06D-BBF8-4A51-B03A-7D53595B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D0E3C-8D3A-4E1D-99A4-C85452B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AF03-BC41-4516-9836-39276AC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39FA-48CE-4DFC-8152-DA64E897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8351-3888-420D-955E-4BBDD942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5565-D1FF-4022-8800-A6A6CEC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E181-CCE2-4B1D-ACC8-CAD38881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B2E-BE74-4384-9CB2-5FCD667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276E-2CA6-451B-843B-CCDD7466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BD6E-5B2E-492F-952F-307BE6A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53AF1-6E1F-400C-B509-C3AAF5B1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81035-F687-4473-800C-18654B8A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0AA29-ACA7-449B-8FCB-5479B3CB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857A-8B70-43F3-B3E0-6A360A53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59FF-7797-4652-A818-5025C746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A22B-171D-4171-93F6-E4326854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6E60D-2468-42A3-9770-9060DEA6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A095-A58E-4AE0-AAA4-A4BA14B2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6A1-4F17-421A-AE08-8507FDF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7F4B-7CD3-4CE8-8586-D469777F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40C80-5FEF-46B0-8E46-F15B8A7C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AB98-4551-4A13-827D-3F06CB4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1643-1E50-4192-945C-22C2549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6AD6-D283-4D0F-8B5D-CDD45E7B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EE4D-04D2-4D02-B60C-2ECDCA72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115C2-E4BE-421F-B88B-F785556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C71F3-EAD7-4150-9875-6DB339FF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77726-779A-4559-BE95-B06FFFCF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3A91E-D5E9-4651-99B4-A19BE5CC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BDA-CB3F-4526-AEE3-112D67458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312-3554-4EA5-B8CC-811A6D75D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F4B-7D45-4730-BBAC-25024C5BC2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6A8-16F2-4F3F-8286-41D7DF495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93F-1E4E-4089-9697-93CB54AD4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9E4-CB74-4DD4-A3BC-3059D94716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94D-5E84-480F-9C68-AC3F282B2F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ADF-2E34-47B2-B34E-2AD7CE798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F799-A317-43E5-A5DB-9208E206B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0DFF-7317-4262-8B38-AE343258E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13B-FFC6-44D7-995A-AA7E35733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AA89-462F-4C04-8836-38DEBF07EF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2D10-3204-499E-9D38-6C00C1E98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5B83-AD8E-4AEC-8795-5EBC31F0A2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7EC-DC11-442B-AD28-D13BBF2BD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7F6-8ADD-49F9-878B-744AB28A06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570-23C3-48E3-8B3B-924653E61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C612-69AB-4BA8-95D5-2D2330209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E4B-55BC-4D60-B4F5-AD6F010EAA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ABF0-100A-4FA1-ABA1-8B632C73F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4B3-CC4F-4C2D-8798-000F5758A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E4AB-6206-4735-9A10-52449BD04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CD9-BC62-48D0-A196-A34D548EF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7AC-A843-4FD1-A641-9FF8FF31F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106-4037-4149-99C2-F6409925E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E8EC-5BE1-4EAC-97E9-A6F66116A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4D5C-86B2-413B-8CBD-469C139786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3BD-9820-4C1A-957A-FAFE99FC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8E3-325A-44A0-A7B1-F65501A3E0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3122-992A-4559-AB18-09E2327AD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719F-441F-4EF1-9013-67791B521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631-AD21-43AD-8395-876D1D242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AAD2-02F2-44E6-A44B-348D9B4197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ACA3-C3F4-4BA2-A003-60900043B8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5A8-8885-4637-BC18-65132DA3E8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7A4-5746-4971-8FEA-CFAC0F70E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1DA6-6D79-4161-BB68-84A7276B2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6A6E-529B-44FE-B27B-8C99EE862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F934-3617-4DBE-BF17-9D21F166B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01F8-EBF7-42F1-9F1F-41712F6F6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52520" y="3057480"/>
            <a:ext cx="46389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95360" y="933480"/>
            <a:ext cx="81532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76280" y="876240"/>
            <a:ext cx="8191440" cy="510552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122480" y="3094200"/>
            <a:ext cx="414324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1108080" y="3618000"/>
            <a:ext cx="414324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1000080" y="4143240"/>
            <a:ext cx="3000600" cy="346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1022400" y="4683240"/>
            <a:ext cx="557208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1000080" y="5286240"/>
            <a:ext cx="5286600" cy="346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14440" y="1295280"/>
            <a:ext cx="811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76280" y="1562040"/>
            <a:ext cx="8191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66560" y="1247760"/>
            <a:ext cx="8210880" cy="43624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857160" y="1357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1857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2928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857160" y="4071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857160" y="4643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642960" y="1752480"/>
            <a:ext cx="7858080" cy="335304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14300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071720" y="2357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214280" y="3000240"/>
            <a:ext cx="500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07172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214280" y="400068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47840" y="1271520"/>
            <a:ext cx="8248320" cy="43149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664380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2060640" y="51084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8229600" cy="2238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8191800" cy="14857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3"/>
          <p:cNvSpPr/>
          <p:nvPr/>
        </p:nvSpPr>
        <p:spPr>
          <a:xfrm>
            <a:off x="200016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61880" y="1514520"/>
            <a:ext cx="8220240" cy="38289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2025720" y="1589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857240" y="4857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71680" y="480960"/>
            <a:ext cx="8001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9:1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